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3B0F-0670-4296-A3CD-50D948C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1866-9C31-4D52-8E4A-890A27C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59CB-2CA2-4DCF-B1F2-1FD6387A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3297-F4C0-4AE4-B778-99EDA503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220-5C79-4239-87C6-A001974A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3FA-B063-416A-879D-AF04B50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A6D3-AD5A-4BDD-857C-59B95FF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2B7D-3532-48E3-BA89-2741E80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A45-530D-4FFB-B2DB-5C62634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3397-E262-468A-B317-9B07F64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AD8B-C885-438F-B239-BE7DE56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87FE-9205-4519-8260-6153B03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0BF5-13A8-4537-9320-34725C3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E84-11BD-4DE1-894A-C822BEC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B49-FA55-4869-B4FF-D03343D0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74A3-42C4-41CD-8B32-02FD97E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D4D4-9993-4816-B716-8A37ACA1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8ED1-736B-46DA-9A46-640279B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4684-B2D8-44A3-AD80-833E3ED0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3A77-5AED-484A-BFB0-A905290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104E-CB2F-4C64-9609-2FCAD41B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24B3-D57F-4153-9ECA-4BB7A52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4C0B-ACF0-4473-A8D6-8F7A3D2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DB26-5E1F-411C-A08C-3CEA4FF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17D-C881-4585-8D17-6A6950A92E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C832-3BCB-475E-B38E-6B566E23B6E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49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13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[: Ваший грях, ако е багр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ял ще стане като сняг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ко е румен, ще стан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вълна бял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Ваший грях, ако е багрен, 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бял ще стане като сняг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уйте глас, що ви приканва: „Обърнете се към Мен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има милост пречуд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любов към в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Чуйте глас, що ви приканва: 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„Обърнете се към Мен!"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9172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[: Престъпленията ваш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готов е да прости!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погледнете към Мене!"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зва Господ Бог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Престъпленията ваши : 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й готов е да прости! :]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1-10T10:01:45Z</dcterms:modified>
  <cp:revision>184</cp:revision>
  <dc:subject/>
  <dc:title>Slide 1</dc:title>
</cp:coreProperties>
</file>